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lzipup01.wav" ContentType="audio/x-wav"/>
  <Override PartName="/ppt/media/image2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zapbig0g.wav" ContentType="audio/x-wav"/>
  <Override PartName="/ppt/media/camera.wav" ContentType="audio/x-wav"/>
  <Override PartName="/ppt/media/image5.wmf" ContentType="image/x-wmf"/>
  <Override PartName="/ppt/media/image10.wmf" ContentType="image/x-wmf"/>
  <Override PartName="/ppt/media/children%20big%20yeah.wav" ContentType="audio/x-wav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B92-1818-4913-97DC-6CB3D773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DC5-6125-43ED-A45C-C706557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340-AF16-4E39-A204-D2D78158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432-6161-4C7E-9D00-3847A262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ACC-5C29-4F80-97FE-2AC8639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AD8-B33B-45D6-875C-BAC83C6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8CF-C2CD-4664-ADBB-AB289945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116-03DD-42CA-8441-1C0E79C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4C4-BFAF-4313-9C79-DFAF2B98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C4B-8B9E-4E6B-A567-06527C69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634-979A-45C1-9187-AF990A5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04C-A139-4016-8F5A-0BAF413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6A8-6394-490C-AAF9-07AB7EB22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audio" Target="../media/zapbig0g.wav"/><Relationship Id="rId8" Type="http://schemas.openxmlformats.org/officeDocument/2006/relationships/audio" Target="../media/children%20big%20yeah.wav"/><Relationship Id="rId9" Type="http://schemas.openxmlformats.org/officeDocument/2006/relationships/audio" Target="../media/children%20big%20yeah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audio" Target="../media/zapbig0g.wav"/><Relationship Id="rId14" Type="http://schemas.openxmlformats.org/officeDocument/2006/relationships/audio" Target="../media/children%20big%20yeah.wav"/><Relationship Id="rId15" Type="http://schemas.openxmlformats.org/officeDocument/2006/relationships/audio" Target="../media/children%20big%20yeah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audio" Target="../media/lzipup01.wav"/><Relationship Id="rId10" Type="http://schemas.openxmlformats.org/officeDocument/2006/relationships/audio" Target="../media/zapbig0g.wav"/><Relationship Id="rId11" Type="http://schemas.openxmlformats.org/officeDocument/2006/relationships/audio" Target="../media/children%20big%20yeah.wav"/><Relationship Id="rId12" Type="http://schemas.openxmlformats.org/officeDocument/2006/relationships/audio" Target="../media/children%20big%20yeah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247760" y="2089080"/>
                <a:ext cx="4978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98480" y="292248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01800" y="2139840"/>
                <a:ext cx="4269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17920" y="2114640"/>
                <a:ext cx="534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92480" y="2141640"/>
                <a:ext cx="8128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35280" y="290052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63560" y="3686040"/>
                <a:ext cx="1513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 txBox="1"/>
          <p:nvPr/>
        </p:nvSpPr>
        <p:spPr>
          <a:xfrm>
            <a:off x="1573200" y="430848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86080" y="28972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23840" y="2089080"/>
                <a:ext cx="5662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57480" y="2911320"/>
                <a:ext cx="1401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2880" y="2144880"/>
                <a:ext cx="682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997360" y="2057400"/>
                <a:ext cx="749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468680" y="2103480"/>
                <a:ext cx="333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55800" y="291924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300320" y="3705120"/>
                <a:ext cx="1849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 txBox="1"/>
          <p:nvPr/>
        </p:nvSpPr>
        <p:spPr>
          <a:xfrm>
            <a:off x="1573200" y="430848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41520" y="2897280"/>
                <a:ext cx="895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92240" y="2089080"/>
                <a:ext cx="5251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20760" y="2922480"/>
                <a:ext cx="1514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 whether the ordered pair is a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inequ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40000" y="2139840"/>
                <a:ext cx="766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21080" y="2173320"/>
                <a:ext cx="5349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76560" y="2084400"/>
                <a:ext cx="809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55800" y="2919240"/>
                <a:ext cx="560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203480" y="3705120"/>
                <a:ext cx="2354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 txBox="1"/>
          <p:nvPr/>
        </p:nvSpPr>
        <p:spPr>
          <a:xfrm>
            <a:off x="1554120" y="4600440"/>
            <a:ext cx="3022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86080" y="292572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094360" y="2895120"/>
            <a:ext cx="3754440" cy="3429000"/>
            <a:chOff x="5094360" y="2895120"/>
            <a:chExt cx="3754440" cy="3429000"/>
          </a:xfrm>
        </p:grpSpPr>
        <p:grpSp>
          <p:nvGrpSpPr>
            <p:cNvPr id="78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79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12944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94360" y="589104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8120" y="1239840"/>
                <a:ext cx="4152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76280" y="18892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3504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32160" y="1865160"/>
                <a:ext cx="14540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68520" y="2622600"/>
                <a:ext cx="522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76880" y="1574640"/>
                <a:ext cx="23558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040" y="3398760"/>
                <a:ext cx="47246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344600" y="3595680"/>
                <a:ext cx="739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84320" y="4254480"/>
                <a:ext cx="1466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575480" y="1636560"/>
                <a:ext cx="498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648480" y="5438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81680" y="546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84880" y="58244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0800" y="43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32600" y="43448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25680" y="3611520"/>
                <a:ext cx="739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30440" y="4241880"/>
                <a:ext cx="909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462040" y="4224240"/>
                <a:ext cx="9604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108400" y="2670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21400" y="26877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3560" y="2739960"/>
            <a:ext cx="2335320" cy="317196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22520" y="4238640"/>
                <a:ext cx="960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799240" y="2257560"/>
            <a:ext cx="16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87520" y="5423040"/>
                <a:ext cx="1363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214960" y="2995560"/>
            <a:ext cx="3422520" cy="3268800"/>
            <a:chOff x="5214960" y="2995560"/>
            <a:chExt cx="3422520" cy="3268800"/>
          </a:xfrm>
        </p:grpSpPr>
        <p:grpSp>
          <p:nvGrpSpPr>
            <p:cNvPr id="127" name=""/>
            <p:cNvGrpSpPr/>
            <p:nvPr/>
          </p:nvGrpSpPr>
          <p:grpSpPr>
            <a:xfrm>
              <a:off x="5214960" y="3054240"/>
              <a:ext cx="1419120" cy="3210120"/>
              <a:chOff x="5214960" y="3054240"/>
              <a:chExt cx="1419120" cy="3210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214960" y="3054240"/>
                <a:ext cx="1419120" cy="3210120"/>
                <a:chOff x="5214960" y="3054240"/>
                <a:chExt cx="1419120" cy="32101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214960" y="3054240"/>
                  <a:ext cx="718920" cy="321012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26000" y="4378320"/>
                  <a:ext cx="603360" cy="188604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896080" y="5622840"/>
                  <a:ext cx="738000" cy="64152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5894280" y="5564160"/>
                <a:ext cx="623880" cy="700200"/>
              </a:xfrm>
              <a:prstGeom prst="rtTriangl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990040" y="3030480"/>
              <a:ext cx="1497960" cy="3227040"/>
              <a:chOff x="5990040" y="3030480"/>
              <a:chExt cx="1497960" cy="32270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5990040" y="3030480"/>
                <a:ext cx="1497960" cy="3226680"/>
                <a:chOff x="5990040" y="3030480"/>
                <a:chExt cx="1497960" cy="322668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6729120" y="3030480"/>
                  <a:ext cx="758880" cy="322668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6522480" y="4361400"/>
                  <a:ext cx="636840" cy="189576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5990040" y="5612400"/>
                  <a:ext cx="779040" cy="644760"/>
                </a:xfrm>
                <a:prstGeom prst="rtTriangl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 flipH="1">
                <a:off x="6112080" y="5553720"/>
                <a:ext cx="658800" cy="703800"/>
              </a:xfrm>
              <a:prstGeom prst="rtTriangle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7470720" y="2995560"/>
              <a:ext cx="1166760" cy="32688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5073480" y="2933280"/>
            <a:ext cx="3754440" cy="3429000"/>
            <a:chOff x="5073480" y="2933280"/>
            <a:chExt cx="3754440" cy="3429000"/>
          </a:xfrm>
        </p:grpSpPr>
        <p:grpSp>
          <p:nvGrpSpPr>
            <p:cNvPr id="141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142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6740640" y="293328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3480" y="371160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5680" y="1239840"/>
                <a:ext cx="3467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≥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76280" y="1865160"/>
                <a:ext cx="492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86080" y="2678040"/>
                <a:ext cx="787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32160" y="1865160"/>
                <a:ext cx="14540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368520" y="2597040"/>
                <a:ext cx="522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92880" y="1574640"/>
                <a:ext cx="1924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44440" y="3417840"/>
                <a:ext cx="3579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744560" y="3544920"/>
                <a:ext cx="4874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4320" y="4254480"/>
                <a:ext cx="1466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37280" y="1603440"/>
                <a:ext cx="11462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037280" y="5300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70480" y="52689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73680" y="58039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0520" y="3645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21400" y="36432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22520" y="4227480"/>
                <a:ext cx="1162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744640" y="4203720"/>
                <a:ext cx="1617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168960" y="22384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58840" y="5423040"/>
                <a:ext cx="202104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681520" y="2606760"/>
            <a:ext cx="2041560" cy="3308400"/>
          </a:xfrm>
          <a:custGeom>
            <a:avLst/>
            <a:gdLst/>
            <a:ahLst/>
            <a:rect l="l" t="t" r="r" b="b"/>
            <a:pathLst>
              <a:path w="1286" h="2084">
                <a:moveTo>
                  <a:pt x="0" y="25"/>
                </a:moveTo>
                <a:cubicBezTo>
                  <a:pt x="51" y="225"/>
                  <a:pt x="102" y="425"/>
                  <a:pt x="171" y="711"/>
                </a:cubicBezTo>
                <a:cubicBezTo>
                  <a:pt x="240" y="997"/>
                  <a:pt x="336" y="1511"/>
                  <a:pt x="416" y="1740"/>
                </a:cubicBezTo>
                <a:cubicBezTo>
                  <a:pt x="496" y="1969"/>
                  <a:pt x="567" y="2084"/>
                  <a:pt x="649" y="2084"/>
                </a:cubicBezTo>
                <a:cubicBezTo>
                  <a:pt x="731" y="2084"/>
                  <a:pt x="824" y="1971"/>
                  <a:pt x="906" y="1740"/>
                </a:cubicBezTo>
                <a:cubicBezTo>
                  <a:pt x="988" y="1509"/>
                  <a:pt x="1076" y="989"/>
                  <a:pt x="1139" y="699"/>
                </a:cubicBezTo>
                <a:cubicBezTo>
                  <a:pt x="1202" y="409"/>
                  <a:pt x="1262" y="116"/>
                  <a:pt x="128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776560" y="2979720"/>
            <a:ext cx="1848240" cy="2936880"/>
            <a:chOff x="5776560" y="2979720"/>
            <a:chExt cx="1848240" cy="2936880"/>
          </a:xfrm>
        </p:grpSpPr>
        <p:grpSp>
          <p:nvGrpSpPr>
            <p:cNvPr id="185" name=""/>
            <p:cNvGrpSpPr/>
            <p:nvPr/>
          </p:nvGrpSpPr>
          <p:grpSpPr>
            <a:xfrm>
              <a:off x="5776560" y="2979720"/>
              <a:ext cx="1848240" cy="2936880"/>
              <a:chOff x="5776560" y="2979720"/>
              <a:chExt cx="1848240" cy="293688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776560" y="2979720"/>
                <a:ext cx="1848240" cy="2936880"/>
                <a:chOff x="5776560" y="2979720"/>
                <a:chExt cx="1848240" cy="293688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5776560" y="2979720"/>
                  <a:ext cx="1011240" cy="2936880"/>
                </a:xfrm>
                <a:prstGeom prst="rtTriangle">
                  <a:avLst/>
                </a:pr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5984640" y="3574800"/>
                  <a:ext cx="389160" cy="1671840"/>
                </a:xfrm>
                <a:prstGeom prst="rtTriangle">
                  <a:avLst/>
                </a:pr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62840" y="2987640"/>
                  <a:ext cx="1461960" cy="2871720"/>
                </a:xfrm>
                <a:custGeom>
                  <a:avLst/>
                  <a:gdLst/>
                  <a:ahLst/>
                  <a:rect l="l" t="t" r="r" b="b"/>
                  <a:pathLst>
                    <a:path w="921" h="1809">
                      <a:moveTo>
                        <a:pt x="51" y="1123"/>
                      </a:moveTo>
                      <a:cubicBezTo>
                        <a:pt x="62" y="1233"/>
                        <a:pt x="84" y="1382"/>
                        <a:pt x="149" y="1478"/>
                      </a:cubicBezTo>
                      <a:cubicBezTo>
                        <a:pt x="191" y="1608"/>
                        <a:pt x="124" y="1414"/>
                        <a:pt x="186" y="1552"/>
                      </a:cubicBezTo>
                      <a:cubicBezTo>
                        <a:pt x="244" y="1683"/>
                        <a:pt x="178" y="1578"/>
                        <a:pt x="235" y="1662"/>
                      </a:cubicBezTo>
                      <a:cubicBezTo>
                        <a:pt x="265" y="1755"/>
                        <a:pt x="221" y="1644"/>
                        <a:pt x="284" y="1723"/>
                      </a:cubicBezTo>
                      <a:cubicBezTo>
                        <a:pt x="324" y="1772"/>
                        <a:pt x="263" y="1751"/>
                        <a:pt x="320" y="1797"/>
                      </a:cubicBezTo>
                      <a:cubicBezTo>
                        <a:pt x="330" y="1805"/>
                        <a:pt x="345" y="1805"/>
                        <a:pt x="357" y="1809"/>
                      </a:cubicBezTo>
                      <a:cubicBezTo>
                        <a:pt x="377" y="1805"/>
                        <a:pt x="399" y="1806"/>
                        <a:pt x="418" y="1797"/>
                      </a:cubicBezTo>
                      <a:cubicBezTo>
                        <a:pt x="491" y="1761"/>
                        <a:pt x="430" y="1769"/>
                        <a:pt x="467" y="1723"/>
                      </a:cubicBezTo>
                      <a:cubicBezTo>
                        <a:pt x="476" y="1712"/>
                        <a:pt x="492" y="1707"/>
                        <a:pt x="504" y="1699"/>
                      </a:cubicBezTo>
                      <a:cubicBezTo>
                        <a:pt x="511" y="1669"/>
                        <a:pt x="528" y="1597"/>
                        <a:pt x="541" y="1576"/>
                      </a:cubicBezTo>
                      <a:cubicBezTo>
                        <a:pt x="569" y="1533"/>
                        <a:pt x="563" y="1549"/>
                        <a:pt x="578" y="1503"/>
                      </a:cubicBezTo>
                      <a:cubicBezTo>
                        <a:pt x="620" y="1378"/>
                        <a:pt x="653" y="1250"/>
                        <a:pt x="688" y="1123"/>
                      </a:cubicBezTo>
                      <a:cubicBezTo>
                        <a:pt x="731" y="970"/>
                        <a:pt x="737" y="809"/>
                        <a:pt x="786" y="657"/>
                      </a:cubicBezTo>
                      <a:cubicBezTo>
                        <a:pt x="805" y="519"/>
                        <a:pt x="828" y="373"/>
                        <a:pt x="872" y="240"/>
                      </a:cubicBezTo>
                      <a:cubicBezTo>
                        <a:pt x="897" y="165"/>
                        <a:pt x="921" y="87"/>
                        <a:pt x="921" y="8"/>
                      </a:cubicBezTo>
                      <a:cubicBezTo>
                        <a:pt x="626" y="0"/>
                        <a:pt x="344" y="8"/>
                        <a:pt x="51" y="8"/>
                      </a:cubicBezTo>
                      <a:cubicBezTo>
                        <a:pt x="45" y="272"/>
                        <a:pt x="72" y="481"/>
                        <a:pt x="14" y="718"/>
                      </a:cubicBezTo>
                      <a:cubicBezTo>
                        <a:pt x="0" y="865"/>
                        <a:pt x="2" y="800"/>
                        <a:pt x="2" y="914"/>
                      </a:cubicBezTo>
                      <a:cubicBezTo>
                        <a:pt x="55" y="1078"/>
                        <a:pt x="38" y="877"/>
                        <a:pt x="38" y="1209"/>
                      </a:cubicBezTo>
                    </a:path>
                  </a:pathLst>
                </a:custGeom>
                <a:solidFill>
                  <a:srgbClr val="ffcc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 rot="10800000">
                <a:off x="5892840" y="3381480"/>
                <a:ext cx="681120" cy="1807920"/>
              </a:xfrm>
              <a:prstGeom prst="rtTriangle">
                <a:avLst/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816520" y="3209760"/>
              <a:ext cx="1108080" cy="2692440"/>
            </a:xfrm>
            <a:custGeom>
              <a:avLst/>
              <a:gdLst/>
              <a:ahLst/>
              <a:rect l="l" t="t" r="r" b="b"/>
              <a:pathLst>
                <a:path w="698" h="1696">
                  <a:moveTo>
                    <a:pt x="86" y="307"/>
                  </a:moveTo>
                  <a:cubicBezTo>
                    <a:pt x="116" y="394"/>
                    <a:pt x="97" y="358"/>
                    <a:pt x="135" y="417"/>
                  </a:cubicBezTo>
                  <a:cubicBezTo>
                    <a:pt x="168" y="584"/>
                    <a:pt x="200" y="752"/>
                    <a:pt x="233" y="919"/>
                  </a:cubicBezTo>
                  <a:cubicBezTo>
                    <a:pt x="264" y="1076"/>
                    <a:pt x="292" y="1249"/>
                    <a:pt x="380" y="1385"/>
                  </a:cubicBezTo>
                  <a:cubicBezTo>
                    <a:pt x="390" y="1424"/>
                    <a:pt x="414" y="1558"/>
                    <a:pt x="442" y="1593"/>
                  </a:cubicBezTo>
                  <a:cubicBezTo>
                    <a:pt x="451" y="1604"/>
                    <a:pt x="466" y="1610"/>
                    <a:pt x="478" y="1618"/>
                  </a:cubicBezTo>
                  <a:cubicBezTo>
                    <a:pt x="482" y="1630"/>
                    <a:pt x="482" y="1646"/>
                    <a:pt x="491" y="1655"/>
                  </a:cubicBezTo>
                  <a:cubicBezTo>
                    <a:pt x="500" y="1664"/>
                    <a:pt x="516" y="1661"/>
                    <a:pt x="527" y="1667"/>
                  </a:cubicBezTo>
                  <a:cubicBezTo>
                    <a:pt x="585" y="1696"/>
                    <a:pt x="541" y="1691"/>
                    <a:pt x="589" y="1691"/>
                  </a:cubicBezTo>
                  <a:cubicBezTo>
                    <a:pt x="598" y="1665"/>
                    <a:pt x="616" y="1644"/>
                    <a:pt x="625" y="1618"/>
                  </a:cubicBezTo>
                  <a:cubicBezTo>
                    <a:pt x="633" y="1594"/>
                    <a:pt x="634" y="1569"/>
                    <a:pt x="638" y="1544"/>
                  </a:cubicBezTo>
                  <a:cubicBezTo>
                    <a:pt x="674" y="1030"/>
                    <a:pt x="674" y="515"/>
                    <a:pt x="674" y="0"/>
                  </a:cubicBezTo>
                  <a:cubicBezTo>
                    <a:pt x="471" y="40"/>
                    <a:pt x="698" y="0"/>
                    <a:pt x="209" y="0"/>
                  </a:cubicBezTo>
                  <a:cubicBezTo>
                    <a:pt x="182" y="0"/>
                    <a:pt x="64" y="12"/>
                    <a:pt x="0" y="12"/>
                  </a:cubicBezTo>
                  <a:cubicBezTo>
                    <a:pt x="24" y="82"/>
                    <a:pt x="49" y="149"/>
                    <a:pt x="62" y="221"/>
                  </a:cubicBezTo>
                  <a:cubicBezTo>
                    <a:pt x="69" y="258"/>
                    <a:pt x="61" y="303"/>
                    <a:pt x="86" y="331"/>
                  </a:cubicBezTo>
                  <a:cubicBezTo>
                    <a:pt x="91" y="337"/>
                    <a:pt x="86" y="315"/>
                    <a:pt x="86" y="307"/>
                  </a:cubicBez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Quadratic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5120" y="1220760"/>
                <a:ext cx="43340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57320" y="1865160"/>
                <a:ext cx="1131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47780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06680" y="1865160"/>
                <a:ext cx="13032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114720" y="2622600"/>
                <a:ext cx="522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392880" y="1574640"/>
                <a:ext cx="19242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680" y="3417840"/>
                <a:ext cx="50720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22200" y="3584520"/>
                <a:ext cx="4384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480" y="4254480"/>
                <a:ext cx="1769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037280" y="1579680"/>
                <a:ext cx="1146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4720" y="4222800"/>
                <a:ext cx="1212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844720" y="4178160"/>
                <a:ext cx="9097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87520" y="5423040"/>
                <a:ext cx="1363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ru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457440" y="3562200"/>
                <a:ext cx="438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5240160" y="2895120"/>
            <a:ext cx="3754440" cy="3429000"/>
            <a:chOff x="5240160" y="2895120"/>
            <a:chExt cx="3754440" cy="3429000"/>
          </a:xfrm>
        </p:grpSpPr>
        <p:grpSp>
          <p:nvGrpSpPr>
            <p:cNvPr id="213" name=""/>
            <p:cNvGrpSpPr/>
            <p:nvPr/>
          </p:nvGrpSpPr>
          <p:grpSpPr>
            <a:xfrm>
              <a:off x="5371920" y="2990880"/>
              <a:ext cx="3428640" cy="3276360"/>
              <a:chOff x="5371920" y="2990880"/>
              <a:chExt cx="3428640" cy="3276360"/>
            </a:xfrm>
          </p:grpSpPr>
          <p:sp>
            <p:nvSpPr>
              <p:cNvPr id="214" name=""/>
              <p:cNvSpPr/>
              <p:nvPr/>
            </p:nvSpPr>
            <p:spPr>
              <a:xfrm>
                <a:off x="6133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89580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5756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19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7192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7192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37192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7192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7192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37192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7192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192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7192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7192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652752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40160" y="33433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602480" y="602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24840" y="60102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92960" y="61736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37280" y="54943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10560" y="5492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21640" y="45576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5680" y="4556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0280" y="22766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3289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7040" y="32670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34080" y="2898720"/>
            <a:ext cx="1692360" cy="3408480"/>
          </a:xfrm>
          <a:custGeom>
            <a:avLst/>
            <a:gdLst/>
            <a:ahLst/>
            <a:rect l="l" t="t" r="r" b="b"/>
            <a:pathLst>
              <a:path w="1066" h="2147">
                <a:moveTo>
                  <a:pt x="0" y="0"/>
                </a:moveTo>
                <a:cubicBezTo>
                  <a:pt x="17" y="61"/>
                  <a:pt x="35" y="122"/>
                  <a:pt x="61" y="306"/>
                </a:cubicBezTo>
                <a:cubicBezTo>
                  <a:pt x="87" y="490"/>
                  <a:pt x="118" y="872"/>
                  <a:pt x="159" y="1103"/>
                </a:cubicBezTo>
                <a:cubicBezTo>
                  <a:pt x="200" y="1334"/>
                  <a:pt x="263" y="1538"/>
                  <a:pt x="306" y="1691"/>
                </a:cubicBezTo>
                <a:cubicBezTo>
                  <a:pt x="349" y="1844"/>
                  <a:pt x="378" y="1946"/>
                  <a:pt x="417" y="2022"/>
                </a:cubicBezTo>
                <a:cubicBezTo>
                  <a:pt x="456" y="2098"/>
                  <a:pt x="500" y="2147"/>
                  <a:pt x="539" y="2145"/>
                </a:cubicBezTo>
                <a:cubicBezTo>
                  <a:pt x="578" y="2143"/>
                  <a:pt x="609" y="2088"/>
                  <a:pt x="650" y="2010"/>
                </a:cubicBezTo>
                <a:cubicBezTo>
                  <a:pt x="691" y="1932"/>
                  <a:pt x="739" y="1832"/>
                  <a:pt x="784" y="1679"/>
                </a:cubicBezTo>
                <a:cubicBezTo>
                  <a:pt x="829" y="1526"/>
                  <a:pt x="880" y="1324"/>
                  <a:pt x="919" y="1091"/>
                </a:cubicBezTo>
                <a:cubicBezTo>
                  <a:pt x="958" y="858"/>
                  <a:pt x="993" y="464"/>
                  <a:pt x="1017" y="282"/>
                </a:cubicBezTo>
                <a:cubicBezTo>
                  <a:pt x="1041" y="100"/>
                  <a:pt x="1058" y="47"/>
                  <a:pt x="1066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276880" y="2992320"/>
            <a:ext cx="4491000" cy="3311280"/>
            <a:chOff x="5276880" y="2992320"/>
            <a:chExt cx="4491000" cy="3311280"/>
          </a:xfrm>
        </p:grpSpPr>
        <p:grpSp>
          <p:nvGrpSpPr>
            <p:cNvPr id="242" name=""/>
            <p:cNvGrpSpPr/>
            <p:nvPr/>
          </p:nvGrpSpPr>
          <p:grpSpPr>
            <a:xfrm>
              <a:off x="5276880" y="3016080"/>
              <a:ext cx="2179440" cy="3287520"/>
              <a:chOff x="5276880" y="3016080"/>
              <a:chExt cx="2179440" cy="3287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5276880" y="3016080"/>
                <a:ext cx="2179440" cy="3287520"/>
                <a:chOff x="5276880" y="3016080"/>
                <a:chExt cx="2179440" cy="3287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970680" y="4943160"/>
                  <a:ext cx="368280" cy="132192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5276880" y="3016080"/>
                  <a:ext cx="2179440" cy="3287520"/>
                  <a:chOff x="5276880" y="3016080"/>
                  <a:chExt cx="2179440" cy="328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276880" y="3016080"/>
                    <a:ext cx="1479240" cy="328752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6737040" y="3269880"/>
                    <a:ext cx="330480" cy="229500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522840" y="5506560"/>
                    <a:ext cx="544680" cy="77760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930720" y="5954400"/>
                    <a:ext cx="525600" cy="32976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0" name=""/>
              <p:cNvSpPr/>
              <p:nvPr/>
            </p:nvSpPr>
            <p:spPr>
              <a:xfrm>
                <a:off x="6892920" y="6072120"/>
                <a:ext cx="426600" cy="21420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607520" y="2992320"/>
              <a:ext cx="2160360" cy="3286080"/>
              <a:chOff x="7607520" y="2992320"/>
              <a:chExt cx="2160360" cy="328608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7607520" y="2992320"/>
                <a:ext cx="2160360" cy="3286080"/>
                <a:chOff x="7607520" y="2992320"/>
                <a:chExt cx="2160360" cy="328608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7723800" y="4918680"/>
                  <a:ext cx="365040" cy="132120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7607520" y="2992320"/>
                  <a:ext cx="2160360" cy="3286080"/>
                  <a:chOff x="7607520" y="2992320"/>
                  <a:chExt cx="2160360" cy="32860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8301240" y="2992320"/>
                    <a:ext cx="1466280" cy="328608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7992720" y="3246120"/>
                    <a:ext cx="327600" cy="229392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7992720" y="5481720"/>
                    <a:ext cx="540000" cy="777240"/>
                  </a:xfrm>
                  <a:prstGeom prst="rect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7607160" y="5929200"/>
                    <a:ext cx="520920" cy="329760"/>
                  </a:xfrm>
                  <a:prstGeom prst="rtTriangle">
                    <a:avLst/>
                  </a:prstGeom>
                  <a:solidFill>
                    <a:srgbClr val="00cc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" name=""/>
              <p:cNvSpPr/>
              <p:nvPr/>
            </p:nvSpPr>
            <p:spPr>
              <a:xfrm flipH="1">
                <a:off x="7742520" y="6046920"/>
                <a:ext cx="423000" cy="2138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8802720" y="2995560"/>
            <a:ext cx="1380960" cy="340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181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Give two possible scenarios for the dimensions of the rectangular pen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22480" y="2293920"/>
          <a:ext cx="330192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2293920"/>
                    <a:ext cx="33019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5092560" y="1693800"/>
            <a:ext cx="4732560" cy="3563280"/>
            <a:chOff x="5092560" y="1693800"/>
            <a:chExt cx="4732560" cy="3563280"/>
          </a:xfrm>
        </p:grpSpPr>
        <p:grpSp>
          <p:nvGrpSpPr>
            <p:cNvPr id="267" name=""/>
            <p:cNvGrpSpPr/>
            <p:nvPr/>
          </p:nvGrpSpPr>
          <p:grpSpPr>
            <a:xfrm>
              <a:off x="5092560" y="1693800"/>
              <a:ext cx="3754440" cy="3563280"/>
              <a:chOff x="5092560" y="1693800"/>
              <a:chExt cx="3754440" cy="3563280"/>
            </a:xfrm>
          </p:grpSpPr>
          <p:sp>
            <p:nvSpPr>
              <p:cNvPr id="268" name=""/>
              <p:cNvSpPr/>
              <p:nvPr/>
            </p:nvSpPr>
            <p:spPr>
              <a:xfrm>
                <a:off x="6003720" y="1787400"/>
                <a:ext cx="1538280" cy="3270240"/>
              </a:xfrm>
              <a:custGeom>
                <a:avLst/>
                <a:gdLst/>
                <a:ahLst/>
                <a:rect l="l" t="t" r="r" b="b"/>
                <a:pathLst>
                  <a:path w="1471" h="1998">
                    <a:moveTo>
                      <a:pt x="0" y="0"/>
                    </a:moveTo>
                    <a:cubicBezTo>
                      <a:pt x="88" y="386"/>
                      <a:pt x="176" y="773"/>
                      <a:pt x="258" y="1067"/>
                    </a:cubicBezTo>
                    <a:cubicBezTo>
                      <a:pt x="340" y="1361"/>
                      <a:pt x="407" y="1610"/>
                      <a:pt x="491" y="1765"/>
                    </a:cubicBezTo>
                    <a:cubicBezTo>
                      <a:pt x="575" y="1920"/>
                      <a:pt x="680" y="1998"/>
                      <a:pt x="760" y="1998"/>
                    </a:cubicBezTo>
                    <a:cubicBezTo>
                      <a:pt x="840" y="1998"/>
                      <a:pt x="891" y="1922"/>
                      <a:pt x="969" y="1765"/>
                    </a:cubicBezTo>
                    <a:cubicBezTo>
                      <a:pt x="1047" y="1608"/>
                      <a:pt x="1142" y="1346"/>
                      <a:pt x="1226" y="1054"/>
                    </a:cubicBezTo>
                    <a:cubicBezTo>
                      <a:pt x="1310" y="762"/>
                      <a:pt x="1430" y="187"/>
                      <a:pt x="1471" y="13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prstDash val="dash"/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281560" y="1882440"/>
                <a:ext cx="3339720" cy="3339720"/>
                <a:chOff x="5281560" y="1882440"/>
                <a:chExt cx="3339720" cy="33397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81560" y="188244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4936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17520" y="1882440"/>
                  <a:ext cx="33372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28532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95312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81560" y="1882440"/>
                  <a:ext cx="334080" cy="33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281560" y="221616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281560" y="255024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281560" y="288432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281560" y="321804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281560" y="355212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81560" y="388656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281560" y="422028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281560" y="4554360"/>
                  <a:ext cx="3339720" cy="33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281560" y="4888440"/>
                  <a:ext cx="3339720" cy="333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 flipV="1">
                <a:off x="6953040" y="1828080"/>
                <a:ext cx="0" cy="3429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092560" y="3558960"/>
                <a:ext cx="3754440" cy="144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7275240" y="1693800"/>
                <a:ext cx="1362240" cy="1846080"/>
                <a:chOff x="7275240" y="1693800"/>
                <a:chExt cx="1362240" cy="1846080"/>
              </a:xfrm>
            </p:grpSpPr>
            <p:sp>
              <p:nvSpPr>
                <p:cNvPr id="288" name=""/>
                <p:cNvSpPr/>
                <p:nvPr/>
              </p:nvSpPr>
              <p:spPr>
                <a:xfrm flipH="1">
                  <a:off x="7275240" y="1693800"/>
                  <a:ext cx="330480" cy="1846080"/>
                </a:xfrm>
                <a:prstGeom prst="rtTriangle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86640" y="1809720"/>
                  <a:ext cx="1050840" cy="1730160"/>
                </a:xfrm>
                <a:prstGeom prst="rect">
                  <a:avLst/>
                </a:prstGeom>
                <a:solidFill>
                  <a:srgbClr val="00cc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" name=""/>
            <p:cNvSpPr/>
            <p:nvPr/>
          </p:nvSpPr>
          <p:spPr>
            <a:xfrm>
              <a:off x="5603760" y="3502080"/>
              <a:ext cx="422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2     -4           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7240" y="2297160"/>
              <a:ext cx="50652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1317600" y="3059280"/>
          <a:ext cx="25909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0" y="3059280"/>
                    <a:ext cx="25909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36680" y="3759120"/>
          <a:ext cx="360684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680" y="3759120"/>
                    <a:ext cx="3606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7197840" y="3483000"/>
            <a:ext cx="1655640" cy="135000"/>
            <a:chOff x="7197840" y="3483000"/>
            <a:chExt cx="1655640" cy="135000"/>
          </a:xfrm>
        </p:grpSpPr>
        <p:sp>
          <p:nvSpPr>
            <p:cNvPr id="297" name=""/>
            <p:cNvSpPr/>
            <p:nvPr/>
          </p:nvSpPr>
          <p:spPr>
            <a:xfrm>
              <a:off x="7197840" y="3483000"/>
              <a:ext cx="115200" cy="1350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14120" y="3550320"/>
              <a:ext cx="153936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859880" y="3481560"/>
            <a:ext cx="176040" cy="17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5372280"/>
            <a:ext cx="3444840" cy="119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Width is 8 feet, length is 12 f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75280" y="5386320"/>
            <a:ext cx="3444840" cy="119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Width is 12 feet, length is 16 f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64320" y="3478320"/>
            <a:ext cx="176400" cy="1760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Suppose a rectangular pen is 10 feet longer than it is wide and its area is more than 96 square feet. Sketch the inequality that describes the dimensions of the rectangular 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773280" y="2973240"/>
          <a:ext cx="294624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973240"/>
                    <a:ext cx="294624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352520" y="3098880"/>
          <a:ext cx="16257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3098880"/>
                    <a:ext cx="1625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646440" y="3095640"/>
          <a:ext cx="76212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3095640"/>
                    <a:ext cx="762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76360" y="3718080"/>
          <a:ext cx="71100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360" y="3718080"/>
                    <a:ext cx="7110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1106640" y="3867120"/>
          <a:ext cx="14731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6640" y="3867120"/>
                    <a:ext cx="1473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516040" y="3882960"/>
          <a:ext cx="203220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6040" y="3882960"/>
                    <a:ext cx="2032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Inequalit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38200" y="1208160"/>
            <a:ext cx="3971880" cy="765000"/>
            <a:chOff x="538200" y="1208160"/>
            <a:chExt cx="3971880" cy="765000"/>
          </a:xfrm>
        </p:grpSpPr>
        <p:graphicFrame>
          <p:nvGraphicFramePr>
            <p:cNvPr id="321" name=""/>
            <p:cNvGraphicFramePr/>
            <p:nvPr/>
          </p:nvGraphicFramePr>
          <p:xfrm>
            <a:off x="538200" y="1208160"/>
            <a:ext cx="71100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8200" y="1208160"/>
                      <a:ext cx="711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"/>
            <p:cNvGraphicFramePr/>
            <p:nvPr/>
          </p:nvGraphicFramePr>
          <p:xfrm>
            <a:off x="1068480" y="1357200"/>
            <a:ext cx="1473120" cy="600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8480" y="1357200"/>
                      <a:ext cx="147312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"/>
            <p:cNvGraphicFramePr/>
            <p:nvPr/>
          </p:nvGraphicFramePr>
          <p:xfrm>
            <a:off x="2477880" y="1373040"/>
            <a:ext cx="2032200" cy="60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77880" y="1373040"/>
                      <a:ext cx="203220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11120" y="1881360"/>
                <a:ext cx="216684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278000" y="1865160"/>
                <a:ext cx="689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476360" y="2678040"/>
                <a:ext cx="6890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384280" y="1865160"/>
                <a:ext cx="170496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446640" y="2622600"/>
                <a:ext cx="5220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32520" y="1574640"/>
                <a:ext cx="264636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0" y="3360600"/>
                <a:ext cx="5083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947880" y="3487680"/>
                <a:ext cx="8762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0" y="4214880"/>
                <a:ext cx="1557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81040" y="4246560"/>
                <a:ext cx="10382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40080" y="4237200"/>
                <a:ext cx="10461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1204920" y="494172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ck  (0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108080" y="5423040"/>
                <a:ext cx="21225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 txBox="1"/>
          <p:nvPr/>
        </p:nvSpPr>
        <p:spPr>
          <a:xfrm>
            <a:off x="1658880" y="6043680"/>
            <a:ext cx="10382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alse</a:t>
            </a:r>
            <a:endParaRPr b="0" lang="en-US" sz="4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084480" y="3484440"/>
                <a:ext cx="87624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430440" y="4189320"/>
                <a:ext cx="1579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050240" y="1622520"/>
                <a:ext cx="139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5" name=""/>
          <p:cNvGrpSpPr/>
          <p:nvPr/>
        </p:nvGrpSpPr>
        <p:grpSpPr>
          <a:xfrm>
            <a:off x="5116680" y="2760840"/>
            <a:ext cx="3774960" cy="3757320"/>
            <a:chOff x="5116680" y="2760840"/>
            <a:chExt cx="3774960" cy="3757320"/>
          </a:xfrm>
        </p:grpSpPr>
        <p:grpSp>
          <p:nvGrpSpPr>
            <p:cNvPr id="346" name=""/>
            <p:cNvGrpSpPr/>
            <p:nvPr/>
          </p:nvGrpSpPr>
          <p:grpSpPr>
            <a:xfrm>
              <a:off x="5149800" y="2824200"/>
              <a:ext cx="3657600" cy="3657600"/>
              <a:chOff x="5149800" y="2824200"/>
              <a:chExt cx="3657600" cy="3657600"/>
            </a:xfrm>
          </p:grpSpPr>
          <p:sp>
            <p:nvSpPr>
              <p:cNvPr id="347" name=""/>
              <p:cNvSpPr/>
              <p:nvPr/>
            </p:nvSpPr>
            <p:spPr>
              <a:xfrm>
                <a:off x="5149800" y="37386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49800" y="40431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49800" y="43480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49800" y="46530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49800" y="49575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49800" y="52624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49800" y="55674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49800" y="58719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49800" y="617688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49800" y="3433680"/>
                <a:ext cx="30477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498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43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642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6876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7368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978600" y="3433680"/>
                <a:ext cx="30456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831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880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93000" y="2824200"/>
                <a:ext cx="30456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197560" y="2824200"/>
                <a:ext cx="304920" cy="365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502480" y="3433680"/>
                <a:ext cx="304920" cy="304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149800" y="3128760"/>
                <a:ext cx="36576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149800" y="2824200"/>
                <a:ext cx="365760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116680" y="4649760"/>
              <a:ext cx="3774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85080" y="2760840"/>
              <a:ext cx="0" cy="3757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902280" y="5749920"/>
            <a:ext cx="150840" cy="171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89560" y="575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95920" y="60580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06960" y="48513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05760" y="485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54800" y="2703600"/>
            <a:ext cx="2158920" cy="3444840"/>
          </a:xfrm>
          <a:custGeom>
            <a:avLst/>
            <a:gdLst/>
            <a:ahLst/>
            <a:rect l="l" t="t" r="r" b="b"/>
            <a:pathLst>
              <a:path w="1286" h="2084">
                <a:moveTo>
                  <a:pt x="0" y="25"/>
                </a:moveTo>
                <a:cubicBezTo>
                  <a:pt x="51" y="225"/>
                  <a:pt x="102" y="425"/>
                  <a:pt x="171" y="711"/>
                </a:cubicBezTo>
                <a:cubicBezTo>
                  <a:pt x="240" y="997"/>
                  <a:pt x="336" y="1511"/>
                  <a:pt x="416" y="1740"/>
                </a:cubicBezTo>
                <a:cubicBezTo>
                  <a:pt x="496" y="1969"/>
                  <a:pt x="567" y="2084"/>
                  <a:pt x="649" y="2084"/>
                </a:cubicBezTo>
                <a:cubicBezTo>
                  <a:pt x="731" y="2084"/>
                  <a:pt x="824" y="1971"/>
                  <a:pt x="906" y="1740"/>
                </a:cubicBezTo>
                <a:cubicBezTo>
                  <a:pt x="988" y="1509"/>
                  <a:pt x="1076" y="989"/>
                  <a:pt x="1139" y="699"/>
                </a:cubicBezTo>
                <a:cubicBezTo>
                  <a:pt x="1202" y="409"/>
                  <a:pt x="1262" y="116"/>
                  <a:pt x="1286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73600" y="3311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20040" y="33084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315200" y="2664000"/>
            <a:ext cx="1498680" cy="1966680"/>
            <a:chOff x="7315200" y="2664000"/>
            <a:chExt cx="1498680" cy="1966680"/>
          </a:xfrm>
        </p:grpSpPr>
        <p:sp>
          <p:nvSpPr>
            <p:cNvPr id="382" name=""/>
            <p:cNvSpPr/>
            <p:nvPr/>
          </p:nvSpPr>
          <p:spPr>
            <a:xfrm flipH="1">
              <a:off x="7315200" y="2664000"/>
              <a:ext cx="409680" cy="1966680"/>
            </a:xfrm>
            <a:prstGeom prst="rtTriangle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04000" y="2762280"/>
              <a:ext cx="1109880" cy="1868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CCSS</cp:lastModifiedBy>
  <dcterms:modified xsi:type="dcterms:W3CDTF">2003-01-22T16:57:11Z</dcterms:modified>
  <cp:revision>47</cp:revision>
  <dc:subject/>
  <dc:title>No Slide Title</dc:title>
</cp:coreProperties>
</file>